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A04-5FA6-41B4-A0FB-302AFD4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6BC-514C-44BF-A757-830C17F5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319-7A72-4BDB-9D58-84A13E6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92C-9A38-4A7C-A112-A0A5777C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7EC-508F-452E-879D-88CAEF41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DB9-6F4B-4E3F-A679-6B2B4D7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CEC-C11B-451E-884A-025649C2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1479-3E2A-4380-9CE0-4BED768E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783D-832F-43B1-B4B9-55F8BBD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D3B6-3783-498E-9DBC-B7333997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C253-54BD-4385-99C2-32002A3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F6E-1548-4CFB-991B-4EA4DCC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5B5B-A785-4725-883D-7D4B603A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35C-97A4-47F4-AB3C-133CC33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A7AE-7F81-449E-9AB1-5D2A9DA6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B15-0160-4D60-A346-77AD7A21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B8A5-23DC-423D-A414-F527B4F7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26F7-D7FE-47ED-A7E8-F6ED365A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4CFF-6909-4201-AD53-DBD05D5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5D50-19C1-4876-9375-BC00C814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9C46-658C-4496-949C-18A640E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7B86-8119-4979-BF2B-262CEDE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597-2DC0-4F1A-AE69-F65EE3F1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8CC5-AE9B-45AF-AD95-4664889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925B-E3B2-48F1-82A4-7E49949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0D86-40D1-4C33-A5B8-828ED2E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164F-700E-4BAF-B25F-F8C31FC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7507-F9CD-44CB-AFFC-0FEBDD3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538E-4098-470F-BB8C-A5EF25C8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0BA1-6157-4B76-A9B2-0BCE3956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E1B1-D1D0-4436-B4BA-4A5DC628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A7F0-4686-4F75-81D9-370125EE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A91E-C325-433A-B662-449C933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173-D782-4080-B50D-AA31F65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6C63-B297-4A61-AFF8-8A4F2B1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F5C2-290B-486F-B350-8CA0A1B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0DF5-1159-4A4A-87B0-E7FA8F6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86B8-2684-4424-8DD5-C245D1F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3D9E-38F7-44F7-8DDF-A0AF996E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982E-BA91-4424-8418-6318349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B689-2C72-4951-8179-7FD2E33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7A71-DD3E-4B0B-8B6F-8418FC48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BF97-E734-4D13-86EA-DB9DAEB3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15D2-0BD8-4438-BB39-8573D300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4FA-ACB1-4CCF-B6D2-7E0D4762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5FB7-B510-451E-B6F4-B61EB42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CBE8-4635-4C62-B691-25F237A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80BAC-1734-41B0-AAA2-F46F7005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768FC-BC0B-4F7F-BD2E-716AA8D9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5324-197B-4419-9DB4-7427D991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07A2-F005-4552-8F0D-03E2E11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59C2-FBC8-4844-801B-C3544C2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8144-8D34-4FB2-981E-906A499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64CE-2DEE-4538-A2CF-42E9DD9B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7A3F-209B-4AE9-B1CF-E70FAB23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791-0486-4B4B-9A23-81A0BAA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A344-852A-4096-8DD5-1766140E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FB36-37E5-4E77-83C2-1C8C327C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8C2C-F570-4352-ABE4-778E1CFD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9FD3-D88E-484B-B8C3-065CADEB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877E-25FF-4936-B547-8EAF5D6A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4DAD-B07A-418C-A1CD-93C2F872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CA5C-58C2-4ED9-8E34-94E20B61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C124-B11B-489C-AEDF-97D90BB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E920-585E-43F5-993D-FCC4CA1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40F7-9CC6-498F-89D0-1ACA7FE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7BB-AB33-47DE-BC0F-B5FC149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C386A-61AD-4322-AA24-17EF0E0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278E-8CF9-4DE1-ACD7-33716F4F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A990-680F-4D2F-84FF-ADB195DC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B0125-0D30-4FB5-B0E8-F5A27B57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BD46-EC50-4FBC-9C75-76042E93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A2775-4050-4400-B54A-D8564729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BE88D-0D9D-48D1-8E04-52B1431B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0789-01DD-48AF-8035-069DF2E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B22E-BE20-4FEC-9E20-1C76339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2D7C-DFDA-48E3-BFD6-3FC21CB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EBE-BE5C-4729-9555-32020A6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8454-D4D3-43D7-A30B-4D32656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B647D-7D2E-4B82-9E26-64BD107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3138-C3CB-4278-A162-C9B46AB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C274-487C-44BD-99F1-BA5BC7CE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BCDD-88B2-4294-9D30-AAD0A48D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E4E-3529-45F2-AE27-CA915A2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91A-3990-4061-B4F2-FA9C170AB7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27D-9CC2-458A-BDAA-CF52DDFCB8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5BB-DA36-4D03-89B0-81BA6356A4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C13-1C42-4AC6-AC42-BA6118652D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08C-C112-4B7F-9AB5-CC4066D1E3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645-2786-42A6-8775-DEE44A0689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CA7-9288-4547-B91C-AB80A566FE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1413000"/>
            <a:ext cx="8640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Изменение величин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258560" y="260280"/>
            <a:ext cx="7499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Температура может как повышаться, так и понижаться</a:t>
            </a:r>
            <a:r>
              <a:rPr b="0" lang="ru-RU" sz="3200" spc="-1" strike="noStrike">
                <a:solidFill>
                  <a:srgbClr val="1c4853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Таким образом, увеличение любой величины можно выразить положительными числами, а уменьшение  - отрицательны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Копия РИСУНОК 48"/>
          <p:cNvPicPr/>
          <p:nvPr/>
        </p:nvPicPr>
        <p:blipFill>
          <a:blip r:embed="rId1"/>
          <a:stretch/>
        </p:blipFill>
        <p:spPr>
          <a:xfrm>
            <a:off x="1187280" y="4365720"/>
            <a:ext cx="761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49"/>
          <p:cNvSpPr/>
          <p:nvPr/>
        </p:nvSpPr>
        <p:spPr>
          <a:xfrm>
            <a:off x="2627280" y="2205000"/>
            <a:ext cx="216000" cy="29527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Овал 10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TextBox 50"/>
          <p:cNvSpPr/>
          <p:nvPr/>
        </p:nvSpPr>
        <p:spPr>
          <a:xfrm>
            <a:off x="4803120" y="1413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TextBox 55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TextBox 56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57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58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оугольник 49"/>
          <p:cNvSpPr/>
          <p:nvPr/>
        </p:nvSpPr>
        <p:spPr>
          <a:xfrm>
            <a:off x="2627280" y="1484280"/>
            <a:ext cx="216000" cy="367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TextBox 50"/>
          <p:cNvSpPr/>
          <p:nvPr/>
        </p:nvSpPr>
        <p:spPr>
          <a:xfrm>
            <a:off x="4803120" y="1413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Овал 55"/>
          <p:cNvSpPr/>
          <p:nvPr/>
        </p:nvSpPr>
        <p:spPr>
          <a:xfrm>
            <a:off x="2484360" y="5084640"/>
            <a:ext cx="50328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TextBox 56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TextBox 57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TextBox 58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TextBox 59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Прямоугольник 49"/>
          <p:cNvSpPr/>
          <p:nvPr/>
        </p:nvSpPr>
        <p:spPr>
          <a:xfrm>
            <a:off x="2627280" y="3284640"/>
            <a:ext cx="216000" cy="1873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TextBox 50"/>
          <p:cNvSpPr/>
          <p:nvPr/>
        </p:nvSpPr>
        <p:spPr>
          <a:xfrm>
            <a:off x="4808160" y="141300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 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TextBox 56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TextBox 57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TextBox 58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TextBox 59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Прямоугольник 49"/>
          <p:cNvSpPr/>
          <p:nvPr/>
        </p:nvSpPr>
        <p:spPr>
          <a:xfrm>
            <a:off x="2627280" y="4005360"/>
            <a:ext cx="216000" cy="115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4808160" y="141300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TextBox 53"/>
          <p:cNvSpPr/>
          <p:nvPr/>
        </p:nvSpPr>
        <p:spPr>
          <a:xfrm>
            <a:off x="5581800" y="1413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TextBox 56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TextBox 57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TextBox 58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TextBox 59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54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Прямоугольник 49"/>
          <p:cNvSpPr/>
          <p:nvPr/>
        </p:nvSpPr>
        <p:spPr>
          <a:xfrm>
            <a:off x="2627280" y="2924280"/>
            <a:ext cx="216000" cy="223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TextBox 51"/>
          <p:cNvSpPr/>
          <p:nvPr/>
        </p:nvSpPr>
        <p:spPr>
          <a:xfrm>
            <a:off x="5660280" y="22050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Овал 55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TextBox 56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TextBox 57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TextBox 58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TextBox 59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60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Прямоугольник 49"/>
          <p:cNvSpPr/>
          <p:nvPr/>
        </p:nvSpPr>
        <p:spPr>
          <a:xfrm>
            <a:off x="2627280" y="2565360"/>
            <a:ext cx="216000" cy="259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TextBox 50"/>
          <p:cNvSpPr/>
          <p:nvPr/>
        </p:nvSpPr>
        <p:spPr>
          <a:xfrm>
            <a:off x="4803120" y="9810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епл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TextBox 51"/>
          <p:cNvSpPr/>
          <p:nvPr/>
        </p:nvSpPr>
        <p:spPr>
          <a:xfrm>
            <a:off x="4800960" y="2205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TextBox 53"/>
          <p:cNvSpPr/>
          <p:nvPr/>
        </p:nvSpPr>
        <p:spPr>
          <a:xfrm>
            <a:off x="5581800" y="981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TextBox 54"/>
          <p:cNvSpPr/>
          <p:nvPr/>
        </p:nvSpPr>
        <p:spPr>
          <a:xfrm>
            <a:off x="4359600" y="4005360"/>
            <a:ext cx="347256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ложительна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79" name="Прямая со стрелкой 56"/>
          <p:cNvCxnSpPr>
            <a:endCxn id="576" idx="1"/>
          </p:cNvCxnSpPr>
          <p:nvPr/>
        </p:nvCxnSpPr>
        <p:spPr>
          <a:xfrm flipH="1">
            <a:off x="6011640" y="1773000"/>
            <a:ext cx="216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Прямая со стрелкой 57"/>
          <p:cNvCxnSpPr/>
          <p:nvPr/>
        </p:nvCxnSpPr>
        <p:spPr>
          <a:xfrm flipH="1">
            <a:off x="6011640" y="2997360"/>
            <a:ext cx="216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1" name="Овал 61"/>
          <p:cNvSpPr/>
          <p:nvPr/>
        </p:nvSpPr>
        <p:spPr>
          <a:xfrm>
            <a:off x="2484360" y="5013360"/>
            <a:ext cx="50328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TextBox 62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TextBox 63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TextBox 64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55"/>
          <p:cNvSpPr/>
          <p:nvPr/>
        </p:nvSpPr>
        <p:spPr>
          <a:xfrm>
            <a:off x="1619280" y="189000"/>
            <a:ext cx="2232000" cy="568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Прямая соединительная линия 23"/>
          <p:cNvSpPr/>
          <p:nvPr/>
        </p:nvSpPr>
        <p:spPr>
          <a:xfrm>
            <a:off x="2195640" y="112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Прямая соединительная линия 24"/>
          <p:cNvSpPr/>
          <p:nvPr/>
        </p:nvSpPr>
        <p:spPr>
          <a:xfrm>
            <a:off x="2195640" y="76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Прямая соединительная линия 20"/>
          <p:cNvSpPr/>
          <p:nvPr/>
        </p:nvSpPr>
        <p:spPr>
          <a:xfrm>
            <a:off x="2195640" y="220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Прямая соединительная линия 21"/>
          <p:cNvSpPr/>
          <p:nvPr/>
        </p:nvSpPr>
        <p:spPr>
          <a:xfrm>
            <a:off x="2195640" y="184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Прямая соединительная линия 22"/>
          <p:cNvSpPr/>
          <p:nvPr/>
        </p:nvSpPr>
        <p:spPr>
          <a:xfrm>
            <a:off x="2195640" y="148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Прямая соединительная линия 17"/>
          <p:cNvSpPr/>
          <p:nvPr/>
        </p:nvSpPr>
        <p:spPr>
          <a:xfrm>
            <a:off x="2195640" y="32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Прямая соединительная линия 18"/>
          <p:cNvSpPr/>
          <p:nvPr/>
        </p:nvSpPr>
        <p:spPr>
          <a:xfrm>
            <a:off x="2195640" y="29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Прямая соединительная линия 19"/>
          <p:cNvSpPr/>
          <p:nvPr/>
        </p:nvSpPr>
        <p:spPr>
          <a:xfrm>
            <a:off x="2195640" y="256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Прямая соединительная линия 14"/>
          <p:cNvSpPr/>
          <p:nvPr/>
        </p:nvSpPr>
        <p:spPr>
          <a:xfrm>
            <a:off x="2195640" y="436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Прямая соединительная линия 15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Прямая соединительная линия 16"/>
          <p:cNvSpPr/>
          <p:nvPr/>
        </p:nvSpPr>
        <p:spPr>
          <a:xfrm>
            <a:off x="2195640" y="3645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Прямая соединительная линия 12"/>
          <p:cNvSpPr/>
          <p:nvPr/>
        </p:nvSpPr>
        <p:spPr>
          <a:xfrm>
            <a:off x="219564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Прямоугольник 7"/>
          <p:cNvSpPr/>
          <p:nvPr/>
        </p:nvSpPr>
        <p:spPr>
          <a:xfrm>
            <a:off x="2627280" y="692280"/>
            <a:ext cx="216000" cy="44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TextBox 27"/>
          <p:cNvSpPr/>
          <p:nvPr/>
        </p:nvSpPr>
        <p:spPr>
          <a:xfrm>
            <a:off x="1838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TextBox 28"/>
          <p:cNvSpPr/>
          <p:nvPr/>
        </p:nvSpPr>
        <p:spPr>
          <a:xfrm>
            <a:off x="3350520" y="2637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TextBox 29"/>
          <p:cNvSpPr/>
          <p:nvPr/>
        </p:nvSpPr>
        <p:spPr>
          <a:xfrm>
            <a:off x="167616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TextBox 30"/>
          <p:cNvSpPr/>
          <p:nvPr/>
        </p:nvSpPr>
        <p:spPr>
          <a:xfrm>
            <a:off x="3260520" y="19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TextBox 31"/>
          <p:cNvSpPr/>
          <p:nvPr/>
        </p:nvSpPr>
        <p:spPr>
          <a:xfrm>
            <a:off x="167616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TextBox 32"/>
          <p:cNvSpPr/>
          <p:nvPr/>
        </p:nvSpPr>
        <p:spPr>
          <a:xfrm>
            <a:off x="326052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TextBox 33"/>
          <p:cNvSpPr/>
          <p:nvPr/>
        </p:nvSpPr>
        <p:spPr>
          <a:xfrm>
            <a:off x="167616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TextBox 34"/>
          <p:cNvSpPr/>
          <p:nvPr/>
        </p:nvSpPr>
        <p:spPr>
          <a:xfrm>
            <a:off x="3260520" y="306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TextBox 37"/>
          <p:cNvSpPr/>
          <p:nvPr/>
        </p:nvSpPr>
        <p:spPr>
          <a:xfrm>
            <a:off x="167616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TextBox 38"/>
          <p:cNvSpPr/>
          <p:nvPr/>
        </p:nvSpPr>
        <p:spPr>
          <a:xfrm>
            <a:off x="3260520" y="335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TextBox 39"/>
          <p:cNvSpPr/>
          <p:nvPr/>
        </p:nvSpPr>
        <p:spPr>
          <a:xfrm>
            <a:off x="167616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TextBox 40"/>
          <p:cNvSpPr/>
          <p:nvPr/>
        </p:nvSpPr>
        <p:spPr>
          <a:xfrm>
            <a:off x="3260520" y="155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TextBox 41"/>
          <p:cNvSpPr/>
          <p:nvPr/>
        </p:nvSpPr>
        <p:spPr>
          <a:xfrm>
            <a:off x="16761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TextBox 42"/>
          <p:cNvSpPr/>
          <p:nvPr/>
        </p:nvSpPr>
        <p:spPr>
          <a:xfrm>
            <a:off x="326052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TextBox 43"/>
          <p:cNvSpPr/>
          <p:nvPr/>
        </p:nvSpPr>
        <p:spPr>
          <a:xfrm>
            <a:off x="167616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TextBox 44"/>
          <p:cNvSpPr/>
          <p:nvPr/>
        </p:nvSpPr>
        <p:spPr>
          <a:xfrm>
            <a:off x="3260520" y="119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TextBox 45"/>
          <p:cNvSpPr/>
          <p:nvPr/>
        </p:nvSpPr>
        <p:spPr>
          <a:xfrm>
            <a:off x="167616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TextBox 46"/>
          <p:cNvSpPr/>
          <p:nvPr/>
        </p:nvSpPr>
        <p:spPr>
          <a:xfrm>
            <a:off x="3260520" y="40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TextBox 47"/>
          <p:cNvSpPr/>
          <p:nvPr/>
        </p:nvSpPr>
        <p:spPr>
          <a:xfrm>
            <a:off x="167616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TextBox 48"/>
          <p:cNvSpPr/>
          <p:nvPr/>
        </p:nvSpPr>
        <p:spPr>
          <a:xfrm>
            <a:off x="3260520" y="83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Прямоугольник 49"/>
          <p:cNvSpPr/>
          <p:nvPr/>
        </p:nvSpPr>
        <p:spPr>
          <a:xfrm>
            <a:off x="2627280" y="3645000"/>
            <a:ext cx="216000" cy="15127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TextBox 50"/>
          <p:cNvSpPr/>
          <p:nvPr/>
        </p:nvSpPr>
        <p:spPr>
          <a:xfrm>
            <a:off x="4520880" y="907920"/>
            <a:ext cx="39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з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TextBox 51"/>
          <p:cNvSpPr/>
          <p:nvPr/>
        </p:nvSpPr>
        <p:spPr>
          <a:xfrm>
            <a:off x="4799520" y="2205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 2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  C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TextBox 52"/>
          <p:cNvSpPr/>
          <p:nvPr/>
        </p:nvSpPr>
        <p:spPr>
          <a:xfrm>
            <a:off x="6014520" y="2205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TextBox 53"/>
          <p:cNvSpPr/>
          <p:nvPr/>
        </p:nvSpPr>
        <p:spPr>
          <a:xfrm>
            <a:off x="5294520" y="90792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TextBox 54"/>
          <p:cNvSpPr/>
          <p:nvPr/>
        </p:nvSpPr>
        <p:spPr>
          <a:xfrm>
            <a:off x="4429800" y="4005360"/>
            <a:ext cx="33325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рицательна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626" name="Прямая со стрелкой 56"/>
          <p:cNvCxnSpPr>
            <a:endCxn id="623" idx="1"/>
          </p:cNvCxnSpPr>
          <p:nvPr/>
        </p:nvCxnSpPr>
        <p:spPr>
          <a:xfrm flipH="1">
            <a:off x="6011640" y="1773000"/>
            <a:ext cx="216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7" name="Прямая со стрелкой 57"/>
          <p:cNvCxnSpPr/>
          <p:nvPr/>
        </p:nvCxnSpPr>
        <p:spPr>
          <a:xfrm flipH="1">
            <a:off x="6011640" y="2997360"/>
            <a:ext cx="2160" cy="100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8" name="Овал 58"/>
          <p:cNvSpPr/>
          <p:nvPr/>
        </p:nvSpPr>
        <p:spPr>
          <a:xfrm>
            <a:off x="2484360" y="5013360"/>
            <a:ext cx="546120" cy="59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167580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TextBox 60"/>
          <p:cNvSpPr/>
          <p:nvPr/>
        </p:nvSpPr>
        <p:spPr>
          <a:xfrm>
            <a:off x="3260160" y="476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TextBox 61"/>
          <p:cNvSpPr/>
          <p:nvPr/>
        </p:nvSpPr>
        <p:spPr>
          <a:xfrm>
            <a:off x="167616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TextBox 62"/>
          <p:cNvSpPr/>
          <p:nvPr/>
        </p:nvSpPr>
        <p:spPr>
          <a:xfrm>
            <a:off x="326052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2:02:17Z</dcterms:created>
  <dc:creator>Admin</dc:creator>
  <dc:description/>
  <dc:language>en-US</dc:language>
  <cp:lastModifiedBy>Admin</cp:lastModifiedBy>
  <dcterms:modified xsi:type="dcterms:W3CDTF">2011-01-30T12:08:36Z</dcterms:modified>
  <cp:revision>1</cp:revision>
  <dc:subject/>
  <dc:title>Изменение величин</dc:title>
</cp:coreProperties>
</file>